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E5FF-6833-42C8-8691-66772F67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A3D7-4CC7-41BA-B271-4802229B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D26-2610-46DA-BEF9-B763D24E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7A7-1E26-47ED-8F24-AA41CE4A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447-5005-4C96-94AD-BA671974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A38-47E9-486E-B489-136F3B0A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72F-E67D-45E2-AE12-756A9092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98A-DBA9-484E-AAC4-1CEA9DAE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DB6B-D5D2-4B7F-B6AB-597244F2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C84-FA2E-4A82-93F4-A5BBCFAA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D49-F4D3-4BB2-B2E3-F3B14D71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18B-0490-46E7-B527-5A9D2FDC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D535-2C70-4FAC-A6B2-59805C888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genomics data collection, integration, visualization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s functional genomics (microarray, interaction, localization, etc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s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ccess to the original data collected and the integrated data via user friendly web tools and convenient bulk 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ata integration and network discovery syst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445000" cy="3838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56386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ga Troyanskaya’s lab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d Meyers, Adam Wible, Drew Rob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br>
              <a:rPr sz="44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http://function.princeton.edu/magic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7083720" cy="5584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482400">
            <a:off x="2209320" y="3951000"/>
            <a:ext cx="1600200" cy="152280"/>
          </a:xfrm>
          <a:prstGeom prst="rightArrow">
            <a:avLst>
              <a:gd name="adj1" fmla="val 50000"/>
              <a:gd name="adj2" fmla="val 26270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8999600">
            <a:off x="1828800" y="3123720"/>
            <a:ext cx="1447920" cy="152640"/>
          </a:xfrm>
          <a:prstGeom prst="rightArrow">
            <a:avLst>
              <a:gd name="adj1" fmla="val 50000"/>
              <a:gd name="adj2" fmla="val 23714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949400">
            <a:off x="1915920" y="4682880"/>
            <a:ext cx="3200400" cy="228600"/>
          </a:xfrm>
          <a:prstGeom prst="rightArrow">
            <a:avLst>
              <a:gd name="adj1" fmla="val 50000"/>
              <a:gd name="adj2" fmla="val 350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600200" y="3200400"/>
            <a:ext cx="12952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the system around the GMOD database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code to load functional genomics data and associated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curator tool (perl CGI, makes use of  MAGE-stk and chado modules) that loads experimental design information (but not actual data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 new schema module to store new type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working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nd implement software for our specific web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php version working off th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actual genomics data, via command line and curator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 up draft schema module, better integrate it with rest of database, send it around to gmod-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over code for web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47920" y="762120"/>
            <a:ext cx="2479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GD @ Prince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zur Rah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e Ought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n K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Wig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Schroe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a Dolin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d Bot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762120"/>
            <a:ext cx="242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oyanskaya l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m W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w Rob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d Me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ga Troyansk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6:03:17Z</dcterms:created>
  <dc:creator>osX</dc:creator>
  <dc:description/>
  <dc:language>en-US</dc:language>
  <cp:lastModifiedBy>Becket Feierbach</cp:lastModifiedBy>
  <cp:lastPrinted>2005-03-22T22:08:58Z</cp:lastPrinted>
  <dcterms:modified xsi:type="dcterms:W3CDTF">2005-05-15T16:16:38Z</dcterms:modified>
  <cp:revision>65</cp:revision>
  <dc:subject/>
  <dc:title>Utilizing bioinformatics methods and open source packages to create useful functional genomics tools for the research community. </dc:title>
</cp:coreProperties>
</file>